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89842"/>
        <c:axId val="13606949"/>
      </c:barChart>
      <c:catAx>
        <c:axId val="60589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06949"/>
        <c:crosses val="autoZero"/>
        <c:auto val="1"/>
        <c:lblAlgn val="ctr"/>
        <c:lblOffset val="100"/>
        <c:noMultiLvlLbl val="0"/>
      </c:catAx>
      <c:valAx>
        <c:axId val="13606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89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C84-7998-4E65-BE96-C6251ABA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0C3-EC96-42BF-BDA6-8980C066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CAC-398A-470B-9118-B763127F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3C0-D560-4DAD-AF10-291DCA40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699-52E2-4737-8B01-DD8B946D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8B0-9AE8-4C0C-B686-AA8FB410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649-2753-46F9-92B3-EEE19FDC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B9E-DD5C-40D1-867B-8EA1ACAA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30A-BF78-4E8E-964D-5AC8F853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059-3A61-4738-8D62-150A4924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27A-9718-4A78-9F61-C4723D2F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FD0-A6EF-4D40-99BE-402ABEB2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5468E-4886-4D9E-90DC-C40B26FB0A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