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51810"/>
        <c:axId val="80241513"/>
      </c:barChart>
      <c:catAx>
        <c:axId val="90551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41513"/>
        <c:crosses val="autoZero"/>
        <c:auto val="1"/>
        <c:lblAlgn val="ctr"/>
        <c:lblOffset val="100"/>
        <c:noMultiLvlLbl val="0"/>
      </c:catAx>
      <c:valAx>
        <c:axId val="80241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51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0B0-C779-42AD-B8D0-9A803833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124-EB6E-4449-B7DB-DC37A2D0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65E-C8D6-422C-A624-1A14028D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BF2-F078-4878-B1B5-6FCF82AB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5F6-7679-49C7-9822-3BE1EBEA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0F1-2322-4653-9A73-4C792C19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5BA-DC3D-4699-BEF4-D204E6BF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AB9-F888-44F4-B52B-C83762E9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BC7-B330-40AF-959C-ABAF8BF7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B15-DC19-47E7-BE3B-3539D123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D47-99A9-4995-BC22-039C6F56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52C-BD8F-486C-98AA-2BE9EF3E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28293-F061-4966-A87D-1C34A6B239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